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AD2-1EEE-441D-BA52-6BC956BF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D0B-1E88-4020-9D78-0CD933DA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E78-44C0-4B14-BAAA-411070D9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283-EB21-4861-A920-B14D84BD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F7D-0ED5-4688-B721-CCF98FCA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AB3-778A-4A64-857C-C11E0EA7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61D-3E37-40E9-9CF2-20A11C09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B34-352E-4913-9B7B-D47E1FB8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BC3-DD6E-4E53-AC7A-62A59C5F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780-08C4-48AD-BC3A-B3917D55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382-084E-4E8B-900A-2F3CDEE8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E10-3E94-4104-8FD9-0E805BAE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BB15-239D-4648-B4C5-D84D5064E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6600" y="152280"/>
            <a:ext cx="43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Rockwell"/>
              </a:rPr>
              <a:t>The Circle of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1752480"/>
            <a:ext cx="2371680" cy="13096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Get Read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Set purpose for learning and access prio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762120"/>
            <a:ext cx="2371680" cy="13096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Prep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Recognize individual learner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312408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53080" y="3886200"/>
            <a:ext cx="2371680" cy="131112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Lear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Gather information and build on prior knowledge to construct new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334120"/>
            <a:ext cx="2400120" cy="131112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Guided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Work with support to develop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568000">
            <a:off x="7391520" y="533412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5334120"/>
            <a:ext cx="2371680" cy="131112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Individual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Work individually to see what you have mastered and what needs mor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809880"/>
            <a:ext cx="2514600" cy="13114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Expression of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Demonstrate what’s been lea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8720400">
            <a:off x="914040" y="533412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752480"/>
            <a:ext cx="2371680" cy="13114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Reflection of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Recognize what went well and what can be worked on as a lea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914040" y="3124080"/>
            <a:ext cx="485640" cy="571680"/>
          </a:xfrm>
          <a:prstGeom prst="downArrow">
            <a:avLst>
              <a:gd name="adj1" fmla="val 50000"/>
              <a:gd name="adj2" fmla="val 29429"/>
            </a:avLst>
          </a:prstGeom>
          <a:solidFill>
            <a:srgbClr val="800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176720" y="580536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971800"/>
            <a:ext cx="2371680" cy="131112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Rockwell"/>
              </a:rPr>
              <a:t>Reflection of Progr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ckwell"/>
              </a:rPr>
              <a:t>Recognize and re-learn what you do not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7970000">
            <a:off x="3027240" y="4552920"/>
            <a:ext cx="898560" cy="485640"/>
          </a:xfrm>
          <a:prstGeom prst="rightArrow">
            <a:avLst>
              <a:gd name="adj1" fmla="val 50000"/>
              <a:gd name="adj2" fmla="val 46256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4482200">
            <a:off x="5910120" y="2395440"/>
            <a:ext cx="486000" cy="571680"/>
          </a:xfrm>
          <a:prstGeom prst="downArrow">
            <a:avLst>
              <a:gd name="adj1" fmla="val 50000"/>
              <a:gd name="adj2" fmla="val 29407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990720" y="990000"/>
            <a:ext cx="2209680" cy="733320"/>
          </a:xfrm>
          <a:custGeom>
            <a:avLst/>
            <a:gdLst>
              <a:gd name="textAreaLeft" fmla="*/ 736560 w 2209680"/>
              <a:gd name="textAreaRight" fmla="*/ 1892520 w 22096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6870240" y="444240"/>
            <a:ext cx="685800" cy="1778040"/>
          </a:xfrm>
          <a:custGeom>
            <a:avLst/>
            <a:gdLst>
              <a:gd name="textAreaLeft" fmla="*/ 0 w 685800"/>
              <a:gd name="textAreaRight" fmla="*/ 686160 w 68580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6:32:46Z</dcterms:created>
  <dc:creator>Amy Story</dc:creator>
  <dc:description/>
  <dc:language>en-US</dc:language>
  <cp:lastModifiedBy>Amy Story</cp:lastModifiedBy>
  <dcterms:modified xsi:type="dcterms:W3CDTF">2010-11-19T19:10:57Z</dcterms:modified>
  <cp:revision>4</cp:revision>
  <dc:subject/>
  <dc:title>Slide 1</dc:title>
</cp:coreProperties>
</file>